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283D8-271D-48AC-B9DB-E60FAA82065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D0B9D-1284-42CA-A43D-3D82396FFA0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2AA40-3AD3-48E0-8DEA-9E3ED89228C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F41AB-A169-47AA-9306-D036378B569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29370-6312-4671-B20B-48BF3374856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B61C9-FF4E-40E4-93B6-72B788B4290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5F3D6-3EC6-4DB8-A003-EF74434C45F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676F9-210B-44C5-AA47-0001A8C0CF7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CCAD9-620B-4CE9-BB5D-D81E34B6EB9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C3789-0450-4D6B-8D73-A715CB4AB7F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C43C-8E5A-4B0A-8CF9-5D07817BB68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590A7-0852-4599-9DC9-FF7B6DC18B3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E0D6B-9D4D-4FF2-AFDB-BCF56C1690B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8D86-7559-480D-96DB-77FE5EDAC5D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DB55B-DF44-4EAC-8DF4-1D91BCF0099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30B70-B13A-4F83-BD31-9562F4EAC57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8D8F-466A-4A0A-A21C-7567B45C565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FB6AF-C182-4737-83A5-E66CEEDAD99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99965-AEF3-44AE-B600-FA2A5C69587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6941E-9C98-446F-8957-2DC62E9F89E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BEB5-CB01-4951-8615-6746AB071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7428-9A5C-49BC-80D4-C6D800D20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9B1C-C0B5-4B38-95E1-A0DFBA40F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985F-D246-4C4F-A4BC-2EF9E95F8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8ECB-85B0-45CF-B932-2156F8E8F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7067-F1B6-4FC9-B6E3-75C014800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B1EB-7DCB-4892-94AF-F347F36A0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8CA2-808E-467F-82E5-00601694D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245A-61F4-480A-9501-631AEE404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D50C-9FB7-4537-87D9-F0B026CF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58EE-47F6-4C43-B427-3498177F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F38C-5961-48EB-A6AD-AF67B2BE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87DFB-0C1A-4CCE-9BF6-F5AD279D8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" name="Object 7"/>
          <p:cNvGraphicFramePr/>
          <p:nvPr/>
        </p:nvGraphicFramePr>
        <p:xfrm>
          <a:off x="468360" y="6024600"/>
          <a:ext cx="6335640" cy="83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6024600"/>
                    <a:ext cx="633564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mvk.cz/rp" TargetMode="External"/><Relationship Id="rId3" Type="http://schemas.openxmlformats.org/officeDocument/2006/relationships/hyperlink" Target="http://www.mvk.cz/rp" TargetMode="External"/><Relationship Id="rId4" Type="http://schemas.openxmlformats.org/officeDocument/2006/relationships/hyperlink" Target="http://www.mvk.cz/rp" TargetMode="External"/><Relationship Id="rId5" Type="http://schemas.openxmlformats.org/officeDocument/2006/relationships/hyperlink" Target="http://www.mvk.cz/rp" TargetMode="External"/><Relationship Id="rId6" Type="http://schemas.openxmlformats.org/officeDocument/2006/relationships/hyperlink" Target="http://www.mvk.cz/rp" TargetMode="External"/><Relationship Id="rId7" Type="http://schemas.openxmlformats.org/officeDocument/2006/relationships/hyperlink" Target="http://www.mvk.cz/rp" TargetMode="External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ppt-úvodní strana"/>
          <p:cNvPicPr/>
          <p:nvPr/>
        </p:nvPicPr>
        <p:blipFill>
          <a:blip r:embed="rId1"/>
          <a:stretch/>
        </p:blipFill>
        <p:spPr>
          <a:xfrm>
            <a:off x="-12600" y="0"/>
            <a:ext cx="9177120" cy="5497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4320" y="1887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2240280" y="3268800"/>
            <a:ext cx="672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ávěrečná konference - duben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Object 10"/>
          <p:cNvGraphicFramePr/>
          <p:nvPr/>
        </p:nvGraphicFramePr>
        <p:xfrm>
          <a:off x="250920" y="5929200"/>
          <a:ext cx="7057800" cy="92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5929200"/>
                    <a:ext cx="705780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7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4"/>
          <a:stretch/>
        </p:blipFill>
        <p:spPr>
          <a:xfrm>
            <a:off x="142920" y="3357720"/>
            <a:ext cx="135720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"/>
          <p:cNvSpPr/>
          <p:nvPr/>
        </p:nvSpPr>
        <p:spPr>
          <a:xfrm>
            <a:off x="34920" y="98280"/>
            <a:ext cx="700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6788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F:\2009\Projekt Rovné příležitosti\září 09 PC kurz\P1010289x.jpg"/>
          <p:cNvPicPr/>
          <p:nvPr/>
        </p:nvPicPr>
        <p:blipFill>
          <a:blip r:embed="rId2"/>
          <a:stretch/>
        </p:blipFill>
        <p:spPr>
          <a:xfrm>
            <a:off x="214200" y="1428840"/>
            <a:ext cx="4000680" cy="3000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F:\2009\Projekt Rovné příležitosti\září 09 PC kurz\P1010264x.jpg"/>
          <p:cNvPicPr/>
          <p:nvPr/>
        </p:nvPicPr>
        <p:blipFill>
          <a:blip r:embed="rId3"/>
          <a:stretch/>
        </p:blipFill>
        <p:spPr>
          <a:xfrm>
            <a:off x="4429080" y="25718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1800" y="98280"/>
            <a:ext cx="7009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proběh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8820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otivace zaměstnavatelů a prosazování prorodinné politiky 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 regionu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jišťoval partner AER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x  konference pro zaměstnavat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x dotazníkové šetření pro zaměstnavate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x konference rodinných a mateřských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358120" y="1285920"/>
            <a:ext cx="68580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34920" y="98280"/>
            <a:ext cx="700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nference pro zaměstnavat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64072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358120" y="1285920"/>
            <a:ext cx="685800" cy="714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F:\2009\Projekt Rovné příležitosti\09_12_02Konference AERV\fotbal a konference 170x.jpg"/>
          <p:cNvPicPr/>
          <p:nvPr/>
        </p:nvPicPr>
        <p:blipFill>
          <a:blip r:embed="rId3"/>
          <a:stretch/>
        </p:blipFill>
        <p:spPr>
          <a:xfrm>
            <a:off x="179280" y="1413000"/>
            <a:ext cx="3961080" cy="2970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F:\2009\Projekt Rovné příležitosti\09_12_02Konference AERV\fotbal a konference 182x.jpg"/>
          <p:cNvPicPr/>
          <p:nvPr/>
        </p:nvPicPr>
        <p:blipFill>
          <a:blip r:embed="rId4"/>
          <a:stretch/>
        </p:blipFill>
        <p:spPr>
          <a:xfrm>
            <a:off x="4356000" y="2781360"/>
            <a:ext cx="418968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34920" y="98280"/>
            <a:ext cx="700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64072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358120" y="1285920"/>
            <a:ext cx="685800" cy="714240"/>
          </a:xfrm>
          <a:prstGeom prst="rect">
            <a:avLst/>
          </a:prstGeom>
          <a:ln w="0">
            <a:noFill/>
          </a:ln>
        </p:spPr>
      </p:pic>
      <p:sp>
        <p:nvSpPr>
          <p:cNvPr id="109" name="TextovéPole 7"/>
          <p:cNvSpPr/>
          <p:nvPr/>
        </p:nvSpPr>
        <p:spPr>
          <a:xfrm>
            <a:off x="611280" y="177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nference mateřských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F:\2010\PROJEKT ŽENY A MUŽI V KOMUNITNÍ KNIHOVNĚ\10_10_21KonferenceRP_DK\P1000423.JPG"/>
          <p:cNvPicPr/>
          <p:nvPr/>
        </p:nvPicPr>
        <p:blipFill>
          <a:blip r:embed="rId3"/>
          <a:stretch/>
        </p:blipFill>
        <p:spPr>
          <a:xfrm>
            <a:off x="3276720" y="1916280"/>
            <a:ext cx="518472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0" y="98280"/>
            <a:ext cx="708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78920" y="1413000"/>
            <a:ext cx="8713800" cy="49687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roblematika slaďování profesního a rodinného 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života v povědomí veřejnosti a místní komunity 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jišťoval partner SPK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vodní přednáška „GENDER -  co to je za slovo a jaký má význam?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ým kampa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tvoření – dobrovolníci a dobrovoln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avidelné schůzky – příprava happeningu, výstavy fotografi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aní článk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dělávání at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appening „Jsme si rovni“ na Dolním námě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stava fotografií „Velké prádlo aneb bourání stereotypů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317080" y="1268280"/>
            <a:ext cx="69840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1800" y="98280"/>
            <a:ext cx="7009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stupy – co probíh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640720" cy="47527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317080" y="1268280"/>
            <a:ext cx="698400" cy="728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F:\2010\PROJEKT ŽENY A MUŽI V KOMUNITNÍ KNIHOVNĚ\10_05_13Happening Jsme si rovni\michal fotky\1\DSC_0756x.jpg"/>
          <p:cNvPicPr/>
          <p:nvPr/>
        </p:nvPicPr>
        <p:blipFill>
          <a:blip r:embed="rId3"/>
          <a:stretch/>
        </p:blipFill>
        <p:spPr>
          <a:xfrm>
            <a:off x="3851280" y="2637000"/>
            <a:ext cx="5113440" cy="3419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F:\2010\PROJEKT ŽENY A MUŽI V KOMUNITNÍ KNIHOVNĚ\Týmkampaně\30.3.2010\P1020921x.jpg"/>
          <p:cNvPicPr/>
          <p:nvPr/>
        </p:nvPicPr>
        <p:blipFill>
          <a:blip r:embed="rId4"/>
          <a:stretch/>
        </p:blipFill>
        <p:spPr>
          <a:xfrm>
            <a:off x="250920" y="1557360"/>
            <a:ext cx="355284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1800" y="98280"/>
            <a:ext cx="7009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stupy – co probíh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640720" cy="47527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317080" y="1268280"/>
            <a:ext cx="698400" cy="728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F:\2010\PROJEKT ŽENY A MUŽI V KOMUNITNÍ KNIHOVNĚ\10_05_13Happening Jsme si rovni\michal fotky\1\DSC_0795x.jpg"/>
          <p:cNvPicPr/>
          <p:nvPr/>
        </p:nvPicPr>
        <p:blipFill>
          <a:blip r:embed="rId3"/>
          <a:stretch/>
        </p:blipFill>
        <p:spPr>
          <a:xfrm>
            <a:off x="4284720" y="3044880"/>
            <a:ext cx="4341600" cy="2905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F:\2010\PROJEKT ŽENY A MUŽI V KOMUNITNÍ KNIHOVNĚ\10_05_13Happening Jsme si rovni\michal fotky\1\DSC_0774x.jpg"/>
          <p:cNvPicPr/>
          <p:nvPr/>
        </p:nvPicPr>
        <p:blipFill>
          <a:blip r:embed="rId4"/>
          <a:stretch/>
        </p:blipFill>
        <p:spPr>
          <a:xfrm>
            <a:off x="324000" y="1484280"/>
            <a:ext cx="388764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1800" y="98280"/>
            <a:ext cx="700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640720" cy="47527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317080" y="1268280"/>
            <a:ext cx="698400" cy="728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F:\2010\PROJEKT ŽENY A MUŽI V KOMUNITNÍ KNIHOVNĚ\Výstava_Aktivní otcovství\P1030803.JPG"/>
          <p:cNvPicPr/>
          <p:nvPr/>
        </p:nvPicPr>
        <p:blipFill>
          <a:blip r:embed="rId3"/>
          <a:stretch/>
        </p:blipFill>
        <p:spPr>
          <a:xfrm>
            <a:off x="179280" y="1484280"/>
            <a:ext cx="3649680" cy="2736720"/>
          </a:xfrm>
          <a:prstGeom prst="rect">
            <a:avLst/>
          </a:prstGeom>
          <a:ln w="0">
            <a:noFill/>
          </a:ln>
        </p:spPr>
      </p:pic>
      <p:sp>
        <p:nvSpPr>
          <p:cNvPr id="132" name="TextovéPole 8"/>
          <p:cNvSpPr/>
          <p:nvPr/>
        </p:nvSpPr>
        <p:spPr>
          <a:xfrm>
            <a:off x="3924360" y="148428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ýstava „Aktivní otcovství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9" descr="F:\2011\ROVNÉ PŘÍLEŽITOSTI_PROJEKTU ESF\Výstava Velké prádlo\IMAG0051x.jpg"/>
          <p:cNvPicPr/>
          <p:nvPr/>
        </p:nvPicPr>
        <p:blipFill>
          <a:blip r:embed="rId4"/>
          <a:stretch/>
        </p:blipFill>
        <p:spPr>
          <a:xfrm>
            <a:off x="4284720" y="3141720"/>
            <a:ext cx="4286160" cy="2566800"/>
          </a:xfrm>
          <a:prstGeom prst="rect">
            <a:avLst/>
          </a:prstGeom>
          <a:ln w="0">
            <a:noFill/>
          </a:ln>
        </p:spPr>
      </p:pic>
      <p:sp>
        <p:nvSpPr>
          <p:cNvPr id="134" name="TextovéPole 8"/>
          <p:cNvSpPr/>
          <p:nvPr/>
        </p:nvSpPr>
        <p:spPr>
          <a:xfrm>
            <a:off x="1476360" y="544500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ýstava „Velké prád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34920" y="189000"/>
            <a:ext cx="700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stu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3628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ránky projektu: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mvk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cz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iskové zprávy, člá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pagační materiá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ogo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C:\Users\Katka\Documents\KATKA\KATKA\Ženy a muži v komunitní knihovně - projekt RP říjen 08\Publicita\Loga\symbol_rovnost_sbaleno\jpeg\logo_plnobarevne.jpg"/>
          <p:cNvPicPr/>
          <p:nvPr/>
        </p:nvPicPr>
        <p:blipFill>
          <a:blip r:embed="rId8"/>
          <a:stretch/>
        </p:blipFill>
        <p:spPr>
          <a:xfrm>
            <a:off x="3000240" y="3714840"/>
            <a:ext cx="345312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ppt-úvodní strana"/>
          <p:cNvPicPr/>
          <p:nvPr/>
        </p:nvPicPr>
        <p:blipFill>
          <a:blip r:embed="rId1"/>
          <a:stretch/>
        </p:blipFill>
        <p:spPr>
          <a:xfrm>
            <a:off x="-12600" y="0"/>
            <a:ext cx="9177120" cy="549756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84320" y="1887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ěkuji za pozornos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110880" y="4943520"/>
            <a:ext cx="549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sarykova veřejná knihovna Vsetí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117360" y="5402160"/>
            <a:ext cx="196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www.mvk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vk@vs.inext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2411280" y="540216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.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1 412 1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bi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20 449 4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1800" y="98280"/>
            <a:ext cx="70099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Neinvestiční projek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23640" y="1341000"/>
            <a:ext cx="8964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Celý název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„Rovné příležitosti žen a mužů v komunitní knihovně Vsetín - partnerství a zdravá komunita - celoživotní vzdělávání – prosperit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Rozpočet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.038.345,92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Harmonogram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červenec 2009 - červen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Hlavní cíl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oci ženám ohroženým z různých důvodů na trhu práce (a mužům ve stejné situaci)</a:t>
            </a:r>
            <a:br>
              <a:rPr sz="4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238960" y="1285920"/>
            <a:ext cx="90504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ppt-horní pruh logo"/>
          <p:cNvPicPr/>
          <p:nvPr/>
        </p:nvPicPr>
        <p:blipFill>
          <a:blip r:embed="rId1"/>
          <a:stretch/>
        </p:blipFill>
        <p:spPr>
          <a:xfrm>
            <a:off x="0" y="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24840" y="0"/>
            <a:ext cx="534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tační program projek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68000" y="14130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ční program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dské zdroje a zaměstnanos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PS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itní os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ciální integrace a rovné příležit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last podpor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vné příležitosti žen a mužů na trhu práce a sladění pracovního rodinného živ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179280" y="1413000"/>
            <a:ext cx="849636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286840" y="1285920"/>
            <a:ext cx="85716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1800" y="49320"/>
            <a:ext cx="7009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íl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79280" y="1341360"/>
            <a:ext cx="8640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lavním cílem projektu j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omoci ženám ohroženým z různých důvodů na trhu práce (a mužům ve stejné situaci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 za pomoci vytvoření partnerství mezi vybranými institucemi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 místě ovlivnit vnímání problematiky rovných příležitostí žen a mužů v okrese Vsetí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286840" y="1357200"/>
            <a:ext cx="69840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1800" y="189000"/>
            <a:ext cx="7009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ílová skup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79280" y="1341360"/>
            <a:ext cx="8507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louhodobě nezaměstnané ženy - muži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podobné situaci (na MD, 50+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městnavatel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NO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286840" y="1285920"/>
            <a:ext cx="76824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4"/>
          <p:cNvSpPr/>
          <p:nvPr/>
        </p:nvSpPr>
        <p:spPr>
          <a:xfrm>
            <a:off x="1800" y="98280"/>
            <a:ext cx="7009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artnerské organ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64072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ěsto Vsetí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dinné a mateřské centrum Sluníčko Vset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olečnost pro komunitní práci Vset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gentura pro ekonomický rozvoj Vsetíns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zká spolupráce s Úřadem práce Vsetín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253360" y="1285920"/>
            <a:ext cx="89064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1800" y="49320"/>
            <a:ext cx="7009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ktiv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9144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zdělávání osob ohrožených na trhu práce (včetně doprovodných opatře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tivace zaměstnavatelů a prosazování prorodinné politiky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region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sazování problematiky slaďování profesního a rodinného života v povědomí veřejnosti a místní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1800" y="98280"/>
            <a:ext cx="7009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proběh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13840" y="1428480"/>
            <a:ext cx="8750520" cy="45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zdělávání osob ohrožených na trhu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 kurz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zykové kurz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atické kurzy – Ekonomické minimum, Technika administrativy, Právní minimum, Ekologie a dalš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obnostní výcvik a psychosociální motivační kurz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provodná opatření – hlídání dětí a příspěvek na doprav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lmi dobrá spolupráce s ÚP Vsetín i RM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ční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pojení, výměna zkušeností (mladé maminky, ženy ve věku 50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ěhlo 70 kurzů, ve kterých bylo proškoleno přes 600 os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307360" y="1285920"/>
            <a:ext cx="83664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34920" y="98280"/>
            <a:ext cx="700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6788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F:\2009\Projekt Rovné příležitosti\Jazykové kurzy\P1010358x.jpg"/>
          <p:cNvPicPr/>
          <p:nvPr/>
        </p:nvPicPr>
        <p:blipFill>
          <a:blip r:embed="rId2"/>
          <a:stretch/>
        </p:blipFill>
        <p:spPr>
          <a:xfrm>
            <a:off x="142920" y="1571760"/>
            <a:ext cx="4095720" cy="3071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F:\2009\Projekt Rovné příležitosti\Jazykové kurzy\P1010355x.jpg"/>
          <p:cNvPicPr/>
          <p:nvPr/>
        </p:nvPicPr>
        <p:blipFill>
          <a:blip r:embed="rId3"/>
          <a:stretch/>
        </p:blipFill>
        <p:spPr>
          <a:xfrm>
            <a:off x="4429080" y="2357280"/>
            <a:ext cx="44769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13:40:35Z</dcterms:created>
  <dc:creator>uživatel</dc:creator>
  <dc:description/>
  <dc:language>en-US</dc:language>
  <cp:lastModifiedBy>Haisová</cp:lastModifiedBy>
  <dcterms:modified xsi:type="dcterms:W3CDTF">2011-07-25T07:05:13Z</dcterms:modified>
  <cp:revision>128</cp:revision>
  <dc:subject/>
  <dc:title>Nadpis prezentace</dc:title>
</cp:coreProperties>
</file>